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0F1F9-2AF0-45ED-AF7C-B6B1B9D1DDB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Quick Writing Review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purpose of writing is to communicate your thoughts and feelings.  This is your voic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ick Writing Re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urpose of writing is to communicate your thoughts and feelings.  This is your voi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AD WHAT YOU WRIT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ad what you write, this will help you edit your paper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 WHAT YOU WR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 what you write, this will help you edit your pap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Your voice can b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heard through writing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voice can b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heard through wri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rganize Your Thought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You must Organize Your Writing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ze Your Though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must Organize Your Writing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to Organiz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ody Paragraph(s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to Organiz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 Paragraph(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troduction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first paragraph should introduce the subject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first sentence of the introductory paragraph should start with a general statement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ample:  Most high school students are proficient at text messaging, however their writing skills are limited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rst paragraph should introduce the subje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rst sentence of the introductory paragraph should start with a general state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  Most high school students are proficient at text messaging, however their writing skills are limi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sentences following the general statement will be the basis for your body paragraph(s).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entences following the general statement will be the basis for your body paragraph(s)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ody Paragraph(s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body paragraph(s) is where you elaborate on the subject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 Paragraph(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ody paragraph(s) is where you elaborate on the subje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clusion Paragraph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“ties” together all that you have written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clusion Paragra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“ties” together all that you have writte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 lk u 4 mi frn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Yes!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ext messaging is communicating.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ever, in English and the workforce this is unacceptable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lk u 4 mi fr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s!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essaging is communicating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ever, in English and the workforce this is unacceptabl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FA362-FE1E-4F19-9A21-DEC188F57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64D38-00DC-4B95-9CDB-6962B0563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D777F-6419-436F-B766-2C4C06DE9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0F955-DB5F-43E5-A416-6B68D520C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E1AD8-EA41-402F-9B37-43ECAA583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67C09-E795-4EF9-9028-4AE85E214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92E97-63F7-4566-86A7-C3307CA36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26EE8-A82D-4622-B033-6208F1E4E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C75E8-0D99-4391-B8A0-7FF152DBC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C91BB-D20C-4F6C-88DD-6505A1ACB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41BF6-F6E9-4A49-AF00-6E1184DD4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F8E55-B453-4437-8D55-2F771CF07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7AE6D-48B8-49A2-BF84-46F04B6855A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Quick Writing Review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purpose of writing is to communicate your thoughts and feelings.  This is your voic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READ WHAT YOU WRIT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Read what you write, this will help you edit your paper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4" name="Picture 7" descr="MPj04117770000[1]"/>
          <p:cNvPicPr/>
          <p:nvPr/>
        </p:nvPicPr>
        <p:blipFill>
          <a:blip r:embed="rId1"/>
          <a:stretch/>
        </p:blipFill>
        <p:spPr>
          <a:xfrm>
            <a:off x="1108080" y="1981080"/>
            <a:ext cx="27367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Your voice can be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 heard through writing.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51" name="Picture 7" descr="MCj03102360000[1]"/>
          <p:cNvPicPr/>
          <p:nvPr/>
        </p:nvPicPr>
        <p:blipFill>
          <a:blip r:embed="rId1"/>
          <a:stretch/>
        </p:blipFill>
        <p:spPr>
          <a:xfrm>
            <a:off x="1143000" y="2133720"/>
            <a:ext cx="3505320" cy="3429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8" descr="MPj04088930000[1]"/>
          <p:cNvPicPr/>
          <p:nvPr/>
        </p:nvPicPr>
        <p:blipFill>
          <a:blip r:embed="rId2"/>
          <a:stretch/>
        </p:blipFill>
        <p:spPr>
          <a:xfrm>
            <a:off x="5302080" y="1981080"/>
            <a:ext cx="27291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Organize Your Thought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5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You must Organize Your Writing!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5" name="Picture 6" descr="MCj01317850000[1]"/>
          <p:cNvPicPr/>
          <p:nvPr/>
        </p:nvPicPr>
        <p:blipFill>
          <a:blip r:embed="rId1"/>
          <a:stretch/>
        </p:blipFill>
        <p:spPr>
          <a:xfrm>
            <a:off x="4648320" y="2529000"/>
            <a:ext cx="4038480" cy="30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How to Organiz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Introductio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901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Body Paragraph(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901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onclusio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8" name="Picture 6" descr="MPj03993130000[1]"/>
          <p:cNvPicPr/>
          <p:nvPr/>
        </p:nvPicPr>
        <p:blipFill>
          <a:blip r:embed="rId1"/>
          <a:stretch/>
        </p:blipFill>
        <p:spPr>
          <a:xfrm>
            <a:off x="4716360" y="2738520"/>
            <a:ext cx="3902040" cy="26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Introduction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first paragraph should introduce the subjec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first sentence of the introductory paragraph should start with a general statemen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ample:  Most high school students are proficient at text messaging, however their writing skills are limite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he sentences following the general statement will be the basis for your body paragraph(s). 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Body Paragraph(s)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he body paragraph(s) is where you elaborate on the subjec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5" name="Picture 9" descr="MPj03900930000[1]"/>
          <p:cNvPicPr/>
          <p:nvPr/>
        </p:nvPicPr>
        <p:blipFill>
          <a:blip r:embed="rId1"/>
          <a:stretch/>
        </p:blipFill>
        <p:spPr>
          <a:xfrm>
            <a:off x="4838760" y="2733840"/>
            <a:ext cx="3657600" cy="26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onclusion Paragraph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his “ties” together all that you have written.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8" name="Picture 5" descr="MPj04009850000[1]"/>
          <p:cNvPicPr/>
          <p:nvPr/>
        </p:nvPicPr>
        <p:blipFill>
          <a:blip r:embed="rId1"/>
          <a:stretch/>
        </p:blipFill>
        <p:spPr>
          <a:xfrm>
            <a:off x="5415120" y="2471760"/>
            <a:ext cx="250488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i lk u 4 mi frnd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4025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Yes! 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ext messaging is communicating. 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However, in English and the workforce this is unacceptable!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1" name="Picture 7" descr="MPj04306370000[1]"/>
          <p:cNvPicPr/>
          <p:nvPr/>
        </p:nvPicPr>
        <p:blipFill>
          <a:blip r:embed="rId1"/>
          <a:stretch/>
        </p:blipFill>
        <p:spPr>
          <a:xfrm>
            <a:off x="4660920" y="2324160"/>
            <a:ext cx="40258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1T15:49:07Z</dcterms:created>
  <dc:creator>pamela.glover</dc:creator>
  <dc:description/>
  <dc:language>en-US</dc:language>
  <cp:lastModifiedBy>RomaK</cp:lastModifiedBy>
  <dcterms:modified xsi:type="dcterms:W3CDTF">2015-09-02T09:46:12Z</dcterms:modified>
  <cp:revision>6</cp:revision>
  <dc:subject/>
  <dc:title>Writing</dc:title>
</cp:coreProperties>
</file>